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675-AD6E-420E-860C-07E594A9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BEA-AC40-44DD-B5D9-D0F22B9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38D7-38CD-44E9-B618-1544D8CBA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F36-2F09-43F7-89B0-70205F7C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D436-89E6-425A-A691-195EAEF3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40F-9DCE-4C47-9962-DB8FB398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D73C-D1F7-408C-80C9-3E35C928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82B5-8636-4BF5-9ACA-52F0A33A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4008-5E0B-455C-A556-C62CFC82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64C-696C-4E27-B46E-9AE9D378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55F7-C429-4181-875B-36F69B9C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3AD-DE5E-46F6-965D-427E80F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B2D-C490-4406-9CA5-19A8561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5C0B-5FF5-43C8-BE36-0958083D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6A60-531B-41AD-9BDF-3639D8F8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8D4-20B5-4100-BFA6-CAF68366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57AB-B093-4E50-B0CF-71A74221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57FC-ABBF-4E56-BA03-28741F1B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A6B-30D5-45CC-A4A8-6CE0B86F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72D-053C-472F-ACB9-7B7BA068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3B0-B2B0-4DB5-8E73-9D4DEFE7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25A-381A-482B-A560-F2EC9C95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2B3-C740-46F2-9714-2D9DC9EC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9C4-79CC-41D5-A77E-7948E407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EDB1-CCEE-4F0B-B3F9-8271B11F52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980-E022-4BE9-B12D-864E915709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afety in the Science La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t’s look at signs of da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y do labs need sig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this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8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about this sig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49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corrosive me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340000" y="198900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type of chemicals need this sig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4537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What does this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4465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oes this apply here to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00360" y="1989000"/>
            <a:ext cx="46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an this happen to me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79640" y="198900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o what sign do we ne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e4a8"/>
                </a:solidFill>
                <a:latin typeface="Tahoma"/>
              </a:rPr>
              <a:t>Design and make a sign to warn of a possible danger here in the science la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8:24:16Z</dcterms:created>
  <dc:creator>Admin </dc:creator>
  <dc:description/>
  <dc:language>en-US</dc:language>
  <cp:lastModifiedBy>Admin </cp:lastModifiedBy>
  <dcterms:modified xsi:type="dcterms:W3CDTF">2005-01-12T08:38:58Z</dcterms:modified>
  <cp:revision>7</cp:revision>
  <dc:subject/>
  <dc:title>Safety in the Science Lab</dc:title>
</cp:coreProperties>
</file>